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"/>
              </a:rPr>
              <a:t>Click to edit the notes format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9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0216F-9F24-43BD-BD84-4B30DDF33852}" type="slidenum"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2D76-3675-4CF1-B338-9440ACA3A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EBF1-212B-49F2-9256-A41DACE2A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4F51-77DA-4ECE-98D6-CDB5EEA78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CCC7-1701-425D-B940-1E83E1A9A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B4DA-7D66-4678-BA61-8D5CC5655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24F7-2CFE-46B7-BE7A-64EA88DD8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739F-EEF6-4935-AC3A-0B59DEA47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5DE0-B060-4677-94DC-310A8AA28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272D-49A9-4E6F-8B67-D4B84247B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3BEA-8206-49DA-9F0C-B6B81B68C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2F6E-2A78-42CD-AEB4-191CCCFD6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1AE0-9EDB-4451-809D-64CC68AA1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4C25E-B06D-4DBF-B813-5F90E2701B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mote Prefix Regi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Draft 1. October 17, 2014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Alex Afanasyev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anbiao Li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553080" y="6445800"/>
            <a:ext cx="2133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60200" indent="-160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gister 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ack-route(s)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on remote hub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76440" indent="-2192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pps own the registered prefix(e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66680" indent="-1522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NDN Testbed certificate delegates ownership for namespac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676440" indent="-2192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gister only when necessa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66680" indent="-1522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at least one local app expects Interest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066680" indent="-1522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there is a connectivity to access router/gateway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676440" indent="-2192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-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gister if failed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66680" indent="-1522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-register if do not receive the success notification from the remote hub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160200" indent="-160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ack-route(s)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should be maintain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76440" indent="-2192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mote hubs keep only soft state f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66680" indent="-1522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mote fac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066680" indent="-1522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mote registration (?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160200" indent="-160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cess should be transparent for app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76440" indent="-2192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pps register only with local NR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76440" indent="-2192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en necessary, registrations further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pagate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6553080" y="6445800"/>
            <a:ext cx="2133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080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verview diagr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2"/>
          <p:cNvSpPr/>
          <p:nvPr/>
        </p:nvSpPr>
        <p:spPr>
          <a:xfrm>
            <a:off x="6553080" y="6415560"/>
            <a:ext cx="2133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Calibri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3941640" y="1066680"/>
            <a:ext cx="2757600" cy="27468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localhop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nfd/nrd/register/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6781680" y="1295280"/>
            <a:ext cx="1828800" cy="533520"/>
          </a:xfrm>
          <a:prstGeom prst="rect">
            <a:avLst/>
          </a:prstGeom>
          <a:solidFill>
            <a:srgbClr val="fcfbf9"/>
          </a:solidFill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393696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Trebuchet MS"/>
              </a:rPr>
              <a:t>Remote NFD/NR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AutoShape 5"/>
          <p:cNvSpPr/>
          <p:nvPr/>
        </p:nvSpPr>
        <p:spPr>
          <a:xfrm flipV="1">
            <a:off x="4583160" y="1598040"/>
            <a:ext cx="2220840" cy="1220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8033" y="0"/>
                </a:moveTo>
                <a:lnTo>
                  <a:pt x="0" y="0"/>
                </a:lnTo>
                <a:lnTo>
                  <a:pt x="0" y="21600"/>
                </a:lnTo>
                <a:lnTo>
                  <a:pt x="21600" y="21600"/>
                </a:lnTo>
              </a:path>
            </a:pathLst>
          </a:custGeom>
          <a:noFill/>
          <a:ln w="28440">
            <a:solidFill>
              <a:srgbClr val="008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3581280" y="2754360"/>
            <a:ext cx="1828800" cy="646200"/>
          </a:xfrm>
          <a:prstGeom prst="rect">
            <a:avLst/>
          </a:prstGeom>
          <a:solidFill>
            <a:srgbClr val="fcfbf9"/>
          </a:solidFill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393696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Trebuchet MS"/>
              </a:rPr>
              <a:t>Local NFD/NR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Line 7"/>
          <p:cNvSpPr/>
          <p:nvPr/>
        </p:nvSpPr>
        <p:spPr>
          <a:xfrm flipV="1">
            <a:off x="4648320" y="4037040"/>
            <a:ext cx="0" cy="1447920"/>
          </a:xfrm>
          <a:prstGeom prst="line">
            <a:avLst/>
          </a:prstGeom>
          <a:ln w="2844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" name="Group 8"/>
          <p:cNvGrpSpPr/>
          <p:nvPr/>
        </p:nvGrpSpPr>
        <p:grpSpPr>
          <a:xfrm>
            <a:off x="1141560" y="5562720"/>
            <a:ext cx="849240" cy="609480"/>
            <a:chOff x="1141560" y="5562720"/>
            <a:chExt cx="849240" cy="609480"/>
          </a:xfrm>
        </p:grpSpPr>
        <p:sp>
          <p:nvSpPr>
            <p:cNvPr id="58" name="AutoShape 9"/>
            <p:cNvSpPr/>
            <p:nvPr/>
          </p:nvSpPr>
          <p:spPr>
            <a:xfrm>
              <a:off x="1141560" y="5562720"/>
              <a:ext cx="849240" cy="609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3879" y="0"/>
                  </a:moveTo>
                  <a:lnTo>
                    <a:pt x="0" y="10800"/>
                  </a:lnTo>
                  <a:lnTo>
                    <a:pt x="3879" y="21600"/>
                  </a:lnTo>
                  <a:lnTo>
                    <a:pt x="17721" y="21600"/>
                  </a:lnTo>
                  <a:lnTo>
                    <a:pt x="21600" y="10800"/>
                  </a:lnTo>
                  <a:lnTo>
                    <a:pt x="17721" y="0"/>
                  </a:lnTo>
                  <a:lnTo>
                    <a:pt x="3879" y="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Rectangle 10"/>
            <p:cNvSpPr/>
            <p:nvPr/>
          </p:nvSpPr>
          <p:spPr>
            <a:xfrm>
              <a:off x="1262880" y="5757480"/>
              <a:ext cx="6062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90000"/>
                </a:lnSpc>
                <a:spcBef>
                  <a:spcPts val="11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  <a:ea typeface="Trebuchet MS"/>
                </a:rPr>
                <a:t>App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" name="Group 11"/>
          <p:cNvGrpSpPr/>
          <p:nvPr/>
        </p:nvGrpSpPr>
        <p:grpSpPr>
          <a:xfrm>
            <a:off x="4189320" y="5562720"/>
            <a:ext cx="849240" cy="609480"/>
            <a:chOff x="4189320" y="5562720"/>
            <a:chExt cx="849240" cy="609480"/>
          </a:xfrm>
        </p:grpSpPr>
        <p:sp>
          <p:nvSpPr>
            <p:cNvPr id="61" name="AutoShape 12"/>
            <p:cNvSpPr/>
            <p:nvPr/>
          </p:nvSpPr>
          <p:spPr>
            <a:xfrm>
              <a:off x="4189320" y="5562720"/>
              <a:ext cx="849240" cy="609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3879" y="0"/>
                  </a:moveTo>
                  <a:lnTo>
                    <a:pt x="0" y="10800"/>
                  </a:lnTo>
                  <a:lnTo>
                    <a:pt x="3879" y="21600"/>
                  </a:lnTo>
                  <a:lnTo>
                    <a:pt x="17721" y="21600"/>
                  </a:lnTo>
                  <a:lnTo>
                    <a:pt x="21600" y="10800"/>
                  </a:lnTo>
                  <a:lnTo>
                    <a:pt x="17721" y="0"/>
                  </a:lnTo>
                  <a:lnTo>
                    <a:pt x="3879" y="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Rectangle 13"/>
            <p:cNvSpPr/>
            <p:nvPr/>
          </p:nvSpPr>
          <p:spPr>
            <a:xfrm>
              <a:off x="4310640" y="5757480"/>
              <a:ext cx="6062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90000"/>
                </a:lnSpc>
                <a:spcBef>
                  <a:spcPts val="11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  <a:ea typeface="Trebuchet MS"/>
                </a:rPr>
                <a:t>App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3" name="Group 14"/>
          <p:cNvGrpSpPr/>
          <p:nvPr/>
        </p:nvGrpSpPr>
        <p:grpSpPr>
          <a:xfrm>
            <a:off x="6856560" y="5562720"/>
            <a:ext cx="849240" cy="609480"/>
            <a:chOff x="6856560" y="5562720"/>
            <a:chExt cx="849240" cy="609480"/>
          </a:xfrm>
        </p:grpSpPr>
        <p:sp>
          <p:nvSpPr>
            <p:cNvPr id="64" name="AutoShape 15"/>
            <p:cNvSpPr/>
            <p:nvPr/>
          </p:nvSpPr>
          <p:spPr>
            <a:xfrm>
              <a:off x="6856560" y="5562720"/>
              <a:ext cx="849240" cy="609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3879" y="0"/>
                  </a:moveTo>
                  <a:lnTo>
                    <a:pt x="0" y="10800"/>
                  </a:lnTo>
                  <a:lnTo>
                    <a:pt x="3879" y="21600"/>
                  </a:lnTo>
                  <a:lnTo>
                    <a:pt x="17721" y="21600"/>
                  </a:lnTo>
                  <a:lnTo>
                    <a:pt x="21600" y="10800"/>
                  </a:lnTo>
                  <a:lnTo>
                    <a:pt x="17721" y="0"/>
                  </a:lnTo>
                  <a:lnTo>
                    <a:pt x="3879" y="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Rectangle 16"/>
            <p:cNvSpPr/>
            <p:nvPr/>
          </p:nvSpPr>
          <p:spPr>
            <a:xfrm>
              <a:off x="6977880" y="5757480"/>
              <a:ext cx="6062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90000"/>
                </a:lnSpc>
                <a:spcBef>
                  <a:spcPts val="11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  <a:ea typeface="Trebuchet MS"/>
                </a:rPr>
                <a:t>App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6" name="Line 17"/>
          <p:cNvSpPr/>
          <p:nvPr/>
        </p:nvSpPr>
        <p:spPr>
          <a:xfrm flipH="1" flipV="1">
            <a:off x="5334120" y="4037040"/>
            <a:ext cx="1676160" cy="1525680"/>
          </a:xfrm>
          <a:prstGeom prst="line">
            <a:avLst/>
          </a:prstGeom>
          <a:ln w="2844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Line 18"/>
          <p:cNvSpPr/>
          <p:nvPr/>
        </p:nvSpPr>
        <p:spPr>
          <a:xfrm flipV="1">
            <a:off x="1839960" y="4037040"/>
            <a:ext cx="1893960" cy="1525680"/>
          </a:xfrm>
          <a:prstGeom prst="line">
            <a:avLst/>
          </a:prstGeom>
          <a:ln w="2844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tangle 19"/>
          <p:cNvSpPr/>
          <p:nvPr/>
        </p:nvSpPr>
        <p:spPr>
          <a:xfrm>
            <a:off x="635040" y="4800600"/>
            <a:ext cx="2590920" cy="426600"/>
          </a:xfrm>
          <a:prstGeom prst="rect">
            <a:avLst/>
          </a:prstGeom>
          <a:gradFill rotWithShape="0">
            <a:gsLst>
              <a:gs pos="0">
                <a:srgbClr val="f5ffe6"/>
              </a:gs>
              <a:gs pos="100000">
                <a:srgbClr val="dafda7"/>
              </a:gs>
            </a:gsLst>
            <a:lin ang="5400000"/>
          </a:gradFill>
          <a:ln w="9360">
            <a:solidFill>
              <a:srgbClr val="98b954"/>
            </a:solidFill>
            <a:round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gister: </a:t>
            </a:r>
            <a:r>
              <a:rPr b="0" lang="en-US" sz="1400" spc="-1" strike="noStrike">
                <a:solidFill>
                  <a:srgbClr val="0000ff"/>
                </a:solidFill>
                <a:latin typeface="Calibri"/>
              </a:rPr>
              <a:t>/ndn/prefix/app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gned: </a:t>
            </a:r>
            <a:r>
              <a:rPr b="0" lang="en-US" sz="1400" spc="-1" strike="noStrike">
                <a:solidFill>
                  <a:srgbClr val="0000ff"/>
                </a:solidFill>
                <a:latin typeface="Calibri"/>
              </a:rPr>
              <a:t>/ndn/prefi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/KEY</a:t>
            </a:r>
            <a:r>
              <a:rPr b="0" lang="en-US" sz="1400" spc="-1" strike="noStrike">
                <a:solidFill>
                  <a:srgbClr val="0000ff"/>
                </a:solidFill>
                <a:latin typeface="Calibri"/>
              </a:rPr>
              <a:t>/app1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/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tangle 20"/>
          <p:cNvSpPr/>
          <p:nvPr/>
        </p:nvSpPr>
        <p:spPr>
          <a:xfrm>
            <a:off x="3429000" y="4800600"/>
            <a:ext cx="2209680" cy="426600"/>
          </a:xfrm>
          <a:prstGeom prst="rect">
            <a:avLst/>
          </a:prstGeom>
          <a:gradFill rotWithShape="0">
            <a:gsLst>
              <a:gs pos="0">
                <a:srgbClr val="f5ffe6"/>
              </a:gs>
              <a:gs pos="100000">
                <a:srgbClr val="dafda7"/>
              </a:gs>
            </a:gsLst>
            <a:lin ang="5400000"/>
          </a:gradFill>
          <a:ln w="9360">
            <a:solidFill>
              <a:srgbClr val="98b954"/>
            </a:solidFill>
            <a:round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gister: </a:t>
            </a:r>
            <a:r>
              <a:rPr b="0" lang="en-US" sz="1400" spc="-1" strike="noStrike">
                <a:solidFill>
                  <a:srgbClr val="0000ff"/>
                </a:solidFill>
                <a:latin typeface="Calibri"/>
              </a:rPr>
              <a:t>/ndn/prefix/app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gned: </a:t>
            </a:r>
            <a:r>
              <a:rPr b="0" lang="en-US" sz="1400" spc="-1" strike="noStrike">
                <a:solidFill>
                  <a:srgbClr val="0000ff"/>
                </a:solidFill>
                <a:latin typeface="Calibri"/>
              </a:rPr>
              <a:t>/ndn/prefi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/KEY/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21"/>
          <p:cNvSpPr/>
          <p:nvPr/>
        </p:nvSpPr>
        <p:spPr>
          <a:xfrm>
            <a:off x="2743200" y="3668760"/>
            <a:ext cx="3238560" cy="27468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localhos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nfd/rib/register/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tangle 22"/>
          <p:cNvSpPr/>
          <p:nvPr/>
        </p:nvSpPr>
        <p:spPr>
          <a:xfrm>
            <a:off x="5867280" y="4800600"/>
            <a:ext cx="2590920" cy="426600"/>
          </a:xfrm>
          <a:prstGeom prst="rect">
            <a:avLst/>
          </a:prstGeom>
          <a:gradFill rotWithShape="0">
            <a:gsLst>
              <a:gs pos="0">
                <a:srgbClr val="f5ffe6"/>
              </a:gs>
              <a:gs pos="100000">
                <a:srgbClr val="dafda7"/>
              </a:gs>
            </a:gsLst>
            <a:lin ang="5400000"/>
          </a:gradFill>
          <a:ln w="9360">
            <a:solidFill>
              <a:srgbClr val="98b954"/>
            </a:solidFill>
            <a:round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gister: </a:t>
            </a:r>
            <a:r>
              <a:rPr b="0" lang="en-US" sz="1400" spc="-1" strike="noStrike">
                <a:solidFill>
                  <a:srgbClr val="0000ff"/>
                </a:solidFill>
                <a:latin typeface="Calibri"/>
              </a:rPr>
              <a:t>/ndn/prefix/app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gned: </a:t>
            </a:r>
            <a:r>
              <a:rPr b="0" lang="en-US" sz="1400" spc="-1" strike="noStrike">
                <a:solidFill>
                  <a:srgbClr val="0000ff"/>
                </a:solidFill>
                <a:latin typeface="Calibri"/>
              </a:rPr>
              <a:t>/ndn/prefix/app2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/KEY/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23"/>
          <p:cNvSpPr/>
          <p:nvPr/>
        </p:nvSpPr>
        <p:spPr>
          <a:xfrm>
            <a:off x="2819520" y="1868400"/>
            <a:ext cx="3581280" cy="549000"/>
          </a:xfrm>
          <a:prstGeom prst="rect">
            <a:avLst/>
          </a:prstGeom>
          <a:gradFill rotWithShape="0">
            <a:gsLst>
              <a:gs pos="0">
                <a:srgbClr val="f0eaf9"/>
              </a:gs>
              <a:gs pos="100000">
                <a:srgbClr val="c9b5e8"/>
              </a:gs>
            </a:gsLst>
            <a:lin ang="5400000"/>
          </a:gradFill>
          <a:ln w="9360">
            <a:solidFill>
              <a:srgbClr val="7d60a0"/>
            </a:solidFill>
            <a:round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gister: </a:t>
            </a:r>
            <a:r>
              <a:rPr b="0" lang="en-US" sz="1800" spc="-1" strike="noStrike">
                <a:solidFill>
                  <a:srgbClr val="0000ff"/>
                </a:solidFill>
                <a:latin typeface="Calibri"/>
              </a:rPr>
              <a:t>/ndn/pref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gned: </a:t>
            </a:r>
            <a:r>
              <a:rPr b="0" lang="en-US" sz="1800" spc="-1" strike="noStrike">
                <a:solidFill>
                  <a:srgbClr val="0000ff"/>
                </a:solidFill>
                <a:latin typeface="Calibri"/>
              </a:rPr>
              <a:t>/ndn/prefix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KEY</a:t>
            </a:r>
            <a:r>
              <a:rPr b="1" lang="en-US" sz="1800" spc="-1" strike="noStrike">
                <a:solidFill>
                  <a:srgbClr val="660066"/>
                </a:solidFill>
                <a:latin typeface="Calibri"/>
              </a:rPr>
              <a:t>/nrd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8360" indent="-198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ocal NR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1360" indent="-258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owns a set of keys/certificates, delegated from user namespac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1090440" indent="-185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  <a:tab algn="l" pos="9953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ey can be restricted/scoped for NRD operations onl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11360" indent="-258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/&lt;...&gt;/KEY/&lt;...&gt;/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</a:rPr>
              <a:t>nrd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/&lt;dsk-id&gt;/ID-CER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1090440" indent="-185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  <a:tab algn="l" pos="9953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/ndn/edu/ucla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KEY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/cs/afanasev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nrd/dsk-1/ID-CER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090440" indent="-185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  <a:tab algn="l" pos="9953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/ndn/edu/ucla/cs/afanasev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KEY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/chronocha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nrd/dsk-1/ID-CER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090440" indent="-185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  <a:tab algn="l" pos="9953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/ndn/gues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KEY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/cawka1@gmail.com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nrd/dsk-2/ID-CER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090440" indent="-185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  <a:tab algn="l" pos="9953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98360" indent="-198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mote NR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1360" indent="-258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llow /localhop registrations with proper trust mod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711360" indent="-258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llow registrations for set of prefix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1090440" indent="-185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  <a:tab algn="l" pos="9953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ndn/edu/ucl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090440" indent="-185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  <a:tab algn="l" pos="9953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ndn/gue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6553080" y="6445800"/>
            <a:ext cx="2133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AutoShape 4"/>
          <p:cNvSpPr/>
          <p:nvPr/>
        </p:nvSpPr>
        <p:spPr>
          <a:xfrm>
            <a:off x="5562720" y="4800600"/>
            <a:ext cx="533160" cy="988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cubicBezTo>
                  <a:pt x="5965" y="0"/>
                  <a:pt x="10800" y="434"/>
                  <a:pt x="10800" y="969"/>
                </a:cubicBezTo>
                <a:lnTo>
                  <a:pt x="10800" y="9831"/>
                </a:lnTo>
                <a:cubicBezTo>
                  <a:pt x="10800" y="10366"/>
                  <a:pt x="15635" y="10800"/>
                  <a:pt x="21600" y="10800"/>
                </a:cubicBezTo>
                <a:cubicBezTo>
                  <a:pt x="15635" y="10800"/>
                  <a:pt x="10800" y="11234"/>
                  <a:pt x="10800" y="11769"/>
                </a:cubicBezTo>
                <a:lnTo>
                  <a:pt x="10800" y="20631"/>
                </a:lnTo>
                <a:cubicBezTo>
                  <a:pt x="10800" y="21166"/>
                  <a:pt x="5965" y="21600"/>
                  <a:pt x="0" y="21600"/>
                </a:cubicBezTo>
              </a:path>
            </a:pathLst>
          </a:custGeom>
          <a:noFill/>
          <a:ln w="25560">
            <a:solidFill>
              <a:srgbClr val="4f81bd"/>
            </a:solidFill>
            <a:round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Rectangle 5"/>
          <p:cNvSpPr/>
          <p:nvPr/>
        </p:nvSpPr>
        <p:spPr>
          <a:xfrm>
            <a:off x="6172200" y="4800600"/>
            <a:ext cx="2438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ill be implemented in phase 2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phase 1, remote NRDs will process all registra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宋体"/>
              </a:rPr>
              <a:t>Remote registration processing on local NR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宋体"/>
              </a:rPr>
              <a:t>after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宋体"/>
              </a:rPr>
              <a:t>any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宋体"/>
              </a:rPr>
              <a:t>prefix registration for prefix &lt;P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if “/localhost”.isPrefixOf(&lt;P&gt;) or no connection to gateway hub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宋体"/>
              </a:rPr>
              <a:t>stop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(keys, namespaces) &lt;- enumerate keys NRD ow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宋体"/>
              </a:rPr>
              <a:t>each key defines “namespace” it use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宋体"/>
              </a:rPr>
              <a:t>we define the following convention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key: /&lt;..1..&gt;/KEY/&lt;..2..&gt;/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nr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/&lt;dsk-id&gt;/ID-CER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宋体"/>
              </a:rPr>
              <a:t>namespace:  /&lt;..1..&gt;/&lt;..2..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(&lt;KEY&gt;, &lt;PREFIX&gt;) &lt;- longest prefix match on key namespaces for &lt;P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宋体"/>
              </a:rPr>
              <a:t>if nothing found, stop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if &lt;PREIFX&gt; already register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宋体"/>
              </a:rPr>
              <a:t>stop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send localhop registration for &lt;PREFIX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宋体"/>
              </a:rPr>
              <a:t>sign with &lt;KEY&gt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schedule registration refresh for &lt;PREFIX&gt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宋体"/>
              </a:rPr>
              <a:t>add &lt;PREFIX&gt; to the registered prefix set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灯片编号占位符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C8BAD-7EC3-4A0C-9948-14BA52046D2D}" type="slidenum">
              <a:rPr b="0" lang="en-US" sz="1600" spc="-1" strike="noStrike">
                <a:solidFill>
                  <a:srgbClr val="7f7f7f"/>
                </a:solidFill>
                <a:latin typeface="Calibri"/>
                <a:ea typeface="宋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hecking whether connected to hub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e will rely on naming conven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/localhop/&lt;site&gt;/nf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/localhop/nf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/localhop/ndn/edu/ucla/nf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/localhop/org/caida/nf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f “/localhop/&lt;site&gt;/nfd” route exists in RIB, then we are connected to one or more hub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hase 1: only /localhop/nf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only one hub or requires broadcast strategy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hase 2: all varia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explicit name of the hub in the nam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ntries registered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utomatically with ndn-autoconfi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nuall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nding remote regi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each found /localhop/&lt;site&gt;/nfd en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registration for prefix &lt;P&gt; is in progress for localhop entry &lt;E&g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nd /localhop/&lt;site&gt;/nfd/rib/register/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error or timeout (4s), ret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x 5 retries (configurable paramet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Calibri"/>
              </a:rPr>
              <a:t>Only /localhop/nfd in phase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How remote registered prefix should be maintained?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60200" indent="-160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oft state on remote hub needs to be refresh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41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hort-term: re-register periodically (on-demand face timeout * 90%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41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ng-term: keep-alive + periodic face/rib que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41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60200" indent="-160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en connectivity changes, remote registered prefix should be refresh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41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R1 signal will be sent by an external too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41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RD should process USR1 signal and refresh all previously remotely registered prefix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41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60200" indent="-160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en all local apps stops, remotely registered prefix should be unregister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41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nregister and face destroy should trigger clean up process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6553080" y="6445800"/>
            <a:ext cx="2133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eanup processing on local NR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7800" indent="-307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38120"/>
                <a:tab algn="l" pos="876240"/>
                <a:tab algn="l" pos="1314360"/>
                <a:tab algn="l" pos="1752480"/>
                <a:tab algn="l" pos="2190600"/>
                <a:tab algn="l" pos="2629080"/>
                <a:tab algn="l" pos="3067200"/>
                <a:tab algn="l" pos="3505320"/>
                <a:tab algn="l" pos="3943440"/>
                <a:tab algn="l" pos="4381560"/>
                <a:tab algn="l" pos="4819680"/>
                <a:tab algn="l" pos="5257800"/>
                <a:tab algn="l" pos="5695920"/>
                <a:tab algn="l" pos="6134040"/>
                <a:tab algn="l" pos="6572160"/>
                <a:tab algn="l" pos="7010280"/>
                <a:tab algn="l" pos="7448400"/>
                <a:tab algn="l" pos="7886880"/>
                <a:tab algn="l" pos="8325000"/>
                <a:tab algn="l" pos="87631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fter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localhost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unregister for prefix &lt;P&gt; or and face destroy (local application stopped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833400" indent="-39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876240"/>
                <a:tab algn="l" pos="1314360"/>
                <a:tab algn="l" pos="1752480"/>
                <a:tab algn="l" pos="2190600"/>
                <a:tab algn="l" pos="2629080"/>
                <a:tab algn="l" pos="3067200"/>
                <a:tab algn="l" pos="3505320"/>
                <a:tab algn="l" pos="3943440"/>
                <a:tab algn="l" pos="4381560"/>
                <a:tab algn="l" pos="4819680"/>
                <a:tab algn="l" pos="5257800"/>
                <a:tab algn="l" pos="5695920"/>
                <a:tab algn="l" pos="6134040"/>
                <a:tab algn="l" pos="6572160"/>
                <a:tab algn="l" pos="7010280"/>
                <a:tab algn="l" pos="7448400"/>
                <a:tab algn="l" pos="7886880"/>
                <a:tab algn="l" pos="8325000"/>
                <a:tab algn="l" pos="8763120"/>
                <a:tab algn="l" pos="9201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f 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/localhost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.isPrefixOf(&lt;P&gt;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57400" indent="-281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14360"/>
                <a:tab algn="l" pos="1752480"/>
                <a:tab algn="l" pos="2190600"/>
                <a:tab algn="l" pos="2629080"/>
                <a:tab algn="l" pos="3067200"/>
                <a:tab algn="l" pos="3505320"/>
                <a:tab algn="l" pos="3943440"/>
                <a:tab algn="l" pos="4381560"/>
                <a:tab algn="l" pos="4819680"/>
                <a:tab algn="l" pos="5257800"/>
                <a:tab algn="l" pos="5695920"/>
                <a:tab algn="l" pos="6134040"/>
                <a:tab algn="l" pos="6572160"/>
                <a:tab algn="l" pos="7010280"/>
                <a:tab algn="l" pos="7448400"/>
                <a:tab algn="l" pos="7886880"/>
                <a:tab algn="l" pos="8325000"/>
                <a:tab algn="l" pos="8763120"/>
                <a:tab algn="l" pos="9201240"/>
                <a:tab algn="l" pos="96393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top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833400" indent="-39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876240"/>
                <a:tab algn="l" pos="1314360"/>
                <a:tab algn="l" pos="1752480"/>
                <a:tab algn="l" pos="2190600"/>
                <a:tab algn="l" pos="2629080"/>
                <a:tab algn="l" pos="3067200"/>
                <a:tab algn="l" pos="3505320"/>
                <a:tab algn="l" pos="3943440"/>
                <a:tab algn="l" pos="4381560"/>
                <a:tab algn="l" pos="4819680"/>
                <a:tab algn="l" pos="5257800"/>
                <a:tab algn="l" pos="5695920"/>
                <a:tab algn="l" pos="6134040"/>
                <a:tab algn="l" pos="6572160"/>
                <a:tab algn="l" pos="7010280"/>
                <a:tab algn="l" pos="7448400"/>
                <a:tab algn="l" pos="7886880"/>
                <a:tab algn="l" pos="8325000"/>
                <a:tab algn="l" pos="8763120"/>
                <a:tab algn="l" pos="9201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r each registered prefix &lt;PREFIX&gt; in the registered prefix li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57400" indent="-281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14360"/>
                <a:tab algn="l" pos="1752480"/>
                <a:tab algn="l" pos="2190600"/>
                <a:tab algn="l" pos="2629080"/>
                <a:tab algn="l" pos="3067200"/>
                <a:tab algn="l" pos="3505320"/>
                <a:tab algn="l" pos="3943440"/>
                <a:tab algn="l" pos="4381560"/>
                <a:tab algn="l" pos="4819680"/>
                <a:tab algn="l" pos="5257800"/>
                <a:tab algn="l" pos="5695920"/>
                <a:tab algn="l" pos="6134040"/>
                <a:tab algn="l" pos="6572160"/>
                <a:tab algn="l" pos="7010280"/>
                <a:tab algn="l" pos="7448400"/>
                <a:tab algn="l" pos="7886880"/>
                <a:tab algn="l" pos="8325000"/>
                <a:tab algn="l" pos="8763120"/>
                <a:tab algn="l" pos="9201240"/>
                <a:tab algn="l" pos="96393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ind RIB entry that has prefix &lt;PREFIX&gt;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1157400" indent="-281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14360"/>
                <a:tab algn="l" pos="1752480"/>
                <a:tab algn="l" pos="2190600"/>
                <a:tab algn="l" pos="2629080"/>
                <a:tab algn="l" pos="3067200"/>
                <a:tab algn="l" pos="3505320"/>
                <a:tab algn="l" pos="3943440"/>
                <a:tab algn="l" pos="4381560"/>
                <a:tab algn="l" pos="4819680"/>
                <a:tab algn="l" pos="5257800"/>
                <a:tab algn="l" pos="5695920"/>
                <a:tab algn="l" pos="6134040"/>
                <a:tab algn="l" pos="6572160"/>
                <a:tab algn="l" pos="7010280"/>
                <a:tab algn="l" pos="7448400"/>
                <a:tab algn="l" pos="7886880"/>
                <a:tab algn="l" pos="8325000"/>
                <a:tab algn="l" pos="8763120"/>
                <a:tab algn="l" pos="9201240"/>
                <a:tab algn="l" pos="96393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if entry not found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3" marL="1546200" indent="-230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752480"/>
                <a:tab algn="l" pos="2190600"/>
                <a:tab algn="l" pos="2629080"/>
                <a:tab algn="l" pos="3067200"/>
                <a:tab algn="l" pos="3505320"/>
                <a:tab algn="l" pos="3943440"/>
                <a:tab algn="l" pos="4381560"/>
                <a:tab algn="l" pos="4819680"/>
                <a:tab algn="l" pos="5257800"/>
                <a:tab algn="l" pos="5695920"/>
                <a:tab algn="l" pos="6134040"/>
                <a:tab algn="l" pos="6572160"/>
                <a:tab algn="l" pos="7010280"/>
                <a:tab algn="l" pos="7448400"/>
                <a:tab algn="l" pos="7886880"/>
                <a:tab algn="l" pos="8325000"/>
                <a:tab algn="l" pos="8763120"/>
                <a:tab algn="l" pos="9201240"/>
                <a:tab algn="l" pos="9639360"/>
                <a:tab algn="l" pos="100774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unregister &lt;PREFIX&gt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3" marL="1546200" indent="-230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752480"/>
                <a:tab algn="l" pos="2190600"/>
                <a:tab algn="l" pos="2629080"/>
                <a:tab algn="l" pos="3067200"/>
                <a:tab algn="l" pos="3505320"/>
                <a:tab algn="l" pos="3943440"/>
                <a:tab algn="l" pos="4381560"/>
                <a:tab algn="l" pos="4819680"/>
                <a:tab algn="l" pos="5257800"/>
                <a:tab algn="l" pos="5695920"/>
                <a:tab algn="l" pos="6134040"/>
                <a:tab algn="l" pos="6572160"/>
                <a:tab algn="l" pos="7010280"/>
                <a:tab algn="l" pos="7448400"/>
                <a:tab algn="l" pos="7886880"/>
                <a:tab algn="l" pos="8325000"/>
                <a:tab algn="l" pos="8763120"/>
                <a:tab algn="l" pos="9201240"/>
                <a:tab algn="l" pos="9639360"/>
                <a:tab algn="l" pos="100774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cancel refresh event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3" marL="1546200" indent="-230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752480"/>
                <a:tab algn="l" pos="2190600"/>
                <a:tab algn="l" pos="2629080"/>
                <a:tab algn="l" pos="3067200"/>
                <a:tab algn="l" pos="3505320"/>
                <a:tab algn="l" pos="3943440"/>
                <a:tab algn="l" pos="4381560"/>
                <a:tab algn="l" pos="4819680"/>
                <a:tab algn="l" pos="5257800"/>
                <a:tab algn="l" pos="5695920"/>
                <a:tab algn="l" pos="6134040"/>
                <a:tab algn="l" pos="6572160"/>
                <a:tab algn="l" pos="7010280"/>
                <a:tab algn="l" pos="7448400"/>
                <a:tab algn="l" pos="7886880"/>
                <a:tab algn="l" pos="8325000"/>
                <a:tab algn="l" pos="8763120"/>
                <a:tab algn="l" pos="9201240"/>
                <a:tab algn="l" pos="9639360"/>
                <a:tab algn="l" pos="100774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remove from the registered lis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6553080" y="6445800"/>
            <a:ext cx="2133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Afanasyev</cp:lastModifiedBy>
  <dcterms:modified xsi:type="dcterms:W3CDTF">2014-10-20T14:35:19Z</dcterms:modified>
  <cp:revision>15</cp:revision>
  <dc:subject/>
  <dc:title>Remote Prefix Registration</dc:title>
</cp:coreProperties>
</file>