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9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50400" y="738360"/>
            <a:ext cx="4907160" cy="368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10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11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5770-A50A-45F6-84C3-0F44D47D028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50760" y="738360"/>
            <a:ext cx="4907160" cy="3681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6B3B-9A0E-4BCD-8DAA-0B6C3679C22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50760" y="738360"/>
            <a:ext cx="4907160" cy="3681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227E-4EFA-4A06-B09A-2FB0510517B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FAFD-F303-4C1B-8B13-E3A57810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5CD9-4951-41B3-85D9-2804EE46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5B8E-9239-44CD-90F1-DA7E440B0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4AC1-2DFE-4EFD-82CA-A1EAA5CB8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31677-D856-43E8-8876-676B801F18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7D404-8642-490E-AC67-6A0381E15C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697D6-5B9F-469A-8B77-8F280EC876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7909E-676D-4CC1-867E-C2A1FB839B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DC479-4BE9-4161-B551-2F211DD6D6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61963-F0F0-4523-85BA-92FFD564F5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49ABF-C480-4202-AA49-63B9EFD38A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F4A8-1978-489D-B395-9454B1FA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DE239-44DD-445A-9210-EC5FADC699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00DD8-E35A-4BCE-9C02-5582C5C832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D8E87-AB63-438A-9F33-60B0A1D58D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0B709-C941-4900-BF67-9D3455D7D2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C5975-6156-47B2-BFAC-975F729237A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28F5D-C308-4090-AB2B-31AAF8D984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09BE2-6B31-43E0-86FA-7912FBC63FC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41014-6D57-49DF-BBD0-FF2E7B92B1E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E9013-7EBD-464E-A7A5-DB563B28A2A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E74B3-E4E1-4650-9F0D-5080BABD05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AD16-62C2-408A-A08E-AE3AAA8C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7C190-45E1-431A-AAE9-70710C870AF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8A9F4-1B2E-476B-AF0B-E609C2B8DC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DB808-7277-448D-BADB-3A5E824B91D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86603-E316-4FBF-B543-9B52E01FEEC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7E199-C99E-400C-8D14-0D3B3A39B89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796FA-94B5-4C6B-97F4-A8B9FD0EC2B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B5D83-9E8A-406E-AD57-C9FDA311A51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716E33-176A-47D7-BA21-10EC76F3536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68515E-2337-42A4-8BDE-76BE92E3C60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ABFC85-86BA-425C-8708-86F69DB1B9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AE87-6B0F-4169-9268-3787AEB6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DFFBEA-5235-4DD5-BB23-5FC8F3DDBB7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3CF5BC-FBC7-413C-91DF-924CDDC4F9B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6A23C2-20C6-41D3-8408-F4B0ED461B3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663284-7DD5-4623-AD21-1A3AD3058AB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806916-F8C8-44E8-A668-3956AB3F8D7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EF2871-5B1E-422F-9CED-FDDBAE307E4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BAA050-CF1E-457E-B7BB-7F4265E7FDC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9A83F9-6CF7-4338-99E7-F3BD70BF872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6DAFB6-AB59-4A8B-8410-DD1DCBAC67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9062-0AC8-49C6-80DB-556064A8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0CCC-37C0-4584-A2BD-59761A61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893F-A87B-4578-9560-C0D7820A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EB32-FFE6-436D-8C63-C1AF25F2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702F-E666-408B-922C-C80864D1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E4B8-9020-47B4-A7E6-ED355355011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Remote Prefix Reg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5BCA-117E-4DB1-86DD-70BCFDA7AC9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3153-3B64-4AA2-9C89-7801647FF3C2}" type="slidenum">
              <a:rPr b="0" lang="en-US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0A46-4D78-46FC-AD2C-5E53EAF6618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Remote Prefix Reg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850F-3749-4FBA-8F8C-7FD3DA6A1237}" type="slidenum">
              <a:rPr b="0" lang="en-US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Arial"/>
              </a:rPr>
              <a:t>Remote Prefix Reg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ote Prefix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Draft 1. October 17, 20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Alex Afanasyev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anbiao L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0515-0DC4-40A0-9D48-C8032217D80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ister “back-route(s)” on remote hu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own the registered prefix(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NDN Testbed certificate delegates ownership for namesp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ster only when necess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t least one local app expects Interes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gregate regist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ocal apps share user- or node-owned prefix(es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-route(s)” should be maintain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te hubs keep only soft state f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f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registration (?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ess should be transparent for ap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register only with local N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necessary, registrations further “propagat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63B7-BE72-47CC-A736-6EE220FEF0F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华文隶书"/>
              </a:rPr>
              <a:t>Overview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幻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3991-37A7-4BDB-83E9-93548031B842}" type="slidenum">
              <a:rPr b="0" lang="en-US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7"/>
          <p:cNvSpPr/>
          <p:nvPr/>
        </p:nvSpPr>
        <p:spPr>
          <a:xfrm>
            <a:off x="3747600" y="1066680"/>
            <a:ext cx="29376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nrd/register/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63"/>
          <p:cNvSpPr/>
          <p:nvPr/>
        </p:nvSpPr>
        <p:spPr>
          <a:xfrm>
            <a:off x="6781680" y="1290600"/>
            <a:ext cx="1828800" cy="98604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Remote NFD/N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肘形连接符 82"/>
          <p:cNvCxnSpPr/>
          <p:nvPr/>
        </p:nvCxnSpPr>
        <p:spPr>
          <a:xfrm flipH="1" rot="10800000">
            <a:off x="5410080" y="1599480"/>
            <a:ext cx="1395720" cy="1220040"/>
          </a:xfrm>
          <a:prstGeom prst="bentConnector3">
            <a:avLst>
              <a:gd name="adj1" fmla="val -59210"/>
            </a:avLst>
          </a:prstGeom>
          <a:ln w="28440">
            <a:solidFill>
              <a:srgbClr val="008000"/>
            </a:solidFill>
            <a:prstDash val="sysDot"/>
            <a:round/>
            <a:tailEnd len="med" type="arrow" w="med"/>
          </a:ln>
        </p:spPr>
      </p:cxnSp>
      <p:sp>
        <p:nvSpPr>
          <p:cNvPr id="178" name="矩形 63"/>
          <p:cNvSpPr/>
          <p:nvPr/>
        </p:nvSpPr>
        <p:spPr>
          <a:xfrm>
            <a:off x="3581280" y="2586240"/>
            <a:ext cx="1828800" cy="98604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Local NFD/N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2"/>
          <p:cNvCxnSpPr/>
          <p:nvPr/>
        </p:nvCxnSpPr>
        <p:spPr>
          <a:xfrm flipV="1">
            <a:off x="4647960" y="4038120"/>
            <a:ext cx="1080" cy="144864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sp>
        <p:nvSpPr>
          <p:cNvPr id="180" name="Hexagon 3"/>
          <p:cNvSpPr/>
          <p:nvPr/>
        </p:nvSpPr>
        <p:spPr>
          <a:xfrm>
            <a:off x="1143000" y="5562720"/>
            <a:ext cx="849240" cy="609480"/>
          </a:xfrm>
          <a:prstGeom prst="hexagon">
            <a:avLst>
              <a:gd name="adj" fmla="val 25023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p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Hexagon 46"/>
          <p:cNvSpPr/>
          <p:nvPr/>
        </p:nvSpPr>
        <p:spPr>
          <a:xfrm>
            <a:off x="4191120" y="5562720"/>
            <a:ext cx="849240" cy="609480"/>
          </a:xfrm>
          <a:prstGeom prst="hexagon">
            <a:avLst>
              <a:gd name="adj" fmla="val 25023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p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Hexagon 47"/>
          <p:cNvSpPr/>
          <p:nvPr/>
        </p:nvSpPr>
        <p:spPr>
          <a:xfrm>
            <a:off x="6858000" y="5562720"/>
            <a:ext cx="849240" cy="609480"/>
          </a:xfrm>
          <a:prstGeom prst="hexagon">
            <a:avLst>
              <a:gd name="adj" fmla="val 25023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p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Straight Arrow Connector 48"/>
          <p:cNvCxnSpPr>
            <a:stCxn id="182" idx="0"/>
          </p:cNvCxnSpPr>
          <p:nvPr/>
        </p:nvCxnSpPr>
        <p:spPr>
          <a:xfrm flipH="1" flipV="1">
            <a:off x="5333760" y="4038120"/>
            <a:ext cx="1676880" cy="152496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cxnSp>
        <p:nvCxnSpPr>
          <p:cNvPr id="184" name="Straight Arrow Connector 50"/>
          <p:cNvCxnSpPr>
            <a:stCxn id="180" idx="0"/>
          </p:cNvCxnSpPr>
          <p:nvPr/>
        </p:nvCxnSpPr>
        <p:spPr>
          <a:xfrm flipV="1">
            <a:off x="1839600" y="4038120"/>
            <a:ext cx="1894680" cy="152496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sp>
        <p:nvSpPr>
          <p:cNvPr id="185" name="Rectangle 7"/>
          <p:cNvSpPr/>
          <p:nvPr/>
        </p:nvSpPr>
        <p:spPr>
          <a:xfrm>
            <a:off x="635040" y="4800600"/>
            <a:ext cx="2590920" cy="5202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app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5"/>
          <p:cNvSpPr/>
          <p:nvPr/>
        </p:nvSpPr>
        <p:spPr>
          <a:xfrm>
            <a:off x="3429000" y="4800600"/>
            <a:ext cx="2209680" cy="5202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36"/>
          <p:cNvSpPr/>
          <p:nvPr/>
        </p:nvSpPr>
        <p:spPr>
          <a:xfrm>
            <a:off x="2743200" y="3668760"/>
            <a:ext cx="32385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rib/register/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6"/>
          <p:cNvSpPr/>
          <p:nvPr/>
        </p:nvSpPr>
        <p:spPr>
          <a:xfrm>
            <a:off x="5867280" y="4800600"/>
            <a:ext cx="2590920" cy="5202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1"/>
          <p:cNvSpPr/>
          <p:nvPr/>
        </p:nvSpPr>
        <p:spPr>
          <a:xfrm>
            <a:off x="2819520" y="1868400"/>
            <a:ext cx="3581280" cy="642600"/>
          </a:xfrm>
          <a:prstGeom prst="rect">
            <a:avLst/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660066"/>
                </a:solidFill>
                <a:latin typeface="Calibri"/>
              </a:rPr>
              <a:t>/n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cal NR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wns a set of keys/certificates, delegated from user namesp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key can be restricted/scoped for NRD operations on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&lt;...&gt;/KEY/&lt;...&gt;/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ndn/edu/ucla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cs/afanasev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ndn/edu/ucla/cs/afanasev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chronochat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ndn/guest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cawka1@gmail.com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rd/dsk-2/ID-CER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mote NR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 /localhop registrations with proper trust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 registrations for set of prefix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dn/edu/ucl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dn/gue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0187-CE42-4C55-A603-6F7B1D087C8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ight Brace 4"/>
          <p:cNvSpPr/>
          <p:nvPr/>
        </p:nvSpPr>
        <p:spPr>
          <a:xfrm>
            <a:off x="5562720" y="4800600"/>
            <a:ext cx="533160" cy="990720"/>
          </a:xfrm>
          <a:custGeom>
            <a:avLst/>
            <a:gdLst>
              <a:gd name="textAreaLeft" fmla="*/ 0 w 533160"/>
              <a:gd name="textAreaRight" fmla="*/ 192600 w 533160"/>
              <a:gd name="textAreaTop" fmla="*/ 13680 h 990720"/>
              <a:gd name="textAreaBottom" fmla="*/ 9770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85"/>
                  <a:pt x="10800" y="969"/>
                </a:cubicBezTo>
                <a:lnTo>
                  <a:pt x="10800" y="9831"/>
                </a:lnTo>
                <a:cubicBezTo>
                  <a:pt x="10800" y="10316"/>
                  <a:pt x="16200" y="10800"/>
                  <a:pt x="21600" y="10800"/>
                </a:cubicBezTo>
                <a:cubicBezTo>
                  <a:pt x="16200" y="10800"/>
                  <a:pt x="10800" y="11285"/>
                  <a:pt x="10800" y="11769"/>
                </a:cubicBezTo>
                <a:lnTo>
                  <a:pt x="10800" y="20631"/>
                </a:lnTo>
                <a:cubicBezTo>
                  <a:pt x="10800" y="21116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6172200" y="4800600"/>
            <a:ext cx="24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implemented in phase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hase 1, remote NRDs will process all regis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mote registration processing on local N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calho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efix registration for prefix &lt;P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“/localhost”.isPrefixOf(&lt;P&gt;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keys, namespaces) &lt;- enumerate keys NRD ow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key defines “namespace” it us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e define the following convention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ey: /&lt;..1..&gt;/KEY/&lt;..2..&gt;/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namespace:  /&lt;..1..&gt;/&lt;..2..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&lt;KEY&gt;, &lt;PREFIX&gt;) &lt;- longest prefix match on key namespaces for &lt;P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f nothing found, st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&lt;PREIFX&gt; already registe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&lt;EXTRA CHECK (seen next slide)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 localhop registration for &lt;PREFIX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gn with &lt;KEY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edule registration refresh for &lt;PREFIX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dd &lt;PREFIX&gt; to RIB entry (?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dd &lt;PREFIX&gt; to the registered prefix set (?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8E43-6CF4-46F0-B8D3-5CD8A4DC06DF}" type="slidenum">
              <a:rPr b="0" lang="en-US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 check during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ame namespace can be covered by multiple key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alex/home/macbook/app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home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home/macbook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home/macbook/app1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ould we always use keys for the shortest namespace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ould we register multiple back routes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hould we unregister longer namespace when shorter is being registered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9D38-D58F-442D-A1ED-A77D5FE26CE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华文隶书"/>
              </a:rPr>
              <a:t>Local NRD (unregister longer when necessary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幻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9C84-7972-4A1B-A57E-6C8B0B3D068A}" type="slidenum">
              <a:rPr b="0" lang="en-US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Remote Prefix Reg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直线箭头连接符 8"/>
          <p:cNvCxnSpPr/>
          <p:nvPr/>
        </p:nvCxnSpPr>
        <p:spPr>
          <a:xfrm>
            <a:off x="4343040" y="1295280"/>
            <a:ext cx="1080" cy="61056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sp>
        <p:nvSpPr>
          <p:cNvPr id="205" name="矩形 9"/>
          <p:cNvSpPr/>
          <p:nvPr/>
        </p:nvSpPr>
        <p:spPr>
          <a:xfrm>
            <a:off x="4386600" y="13716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quest (regi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5"/>
          <p:cNvSpPr/>
          <p:nvPr/>
        </p:nvSpPr>
        <p:spPr>
          <a:xfrm>
            <a:off x="2819520" y="1905120"/>
            <a:ext cx="31240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rmine prefix to 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0"/>
          <p:cNvSpPr/>
          <p:nvPr/>
        </p:nvSpPr>
        <p:spPr>
          <a:xfrm>
            <a:off x="2819520" y="1981080"/>
            <a:ext cx="3047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菱形 11"/>
          <p:cNvSpPr/>
          <p:nvPr/>
        </p:nvSpPr>
        <p:spPr>
          <a:xfrm>
            <a:off x="2819520" y="2819520"/>
            <a:ext cx="3124080" cy="609480"/>
          </a:xfrm>
          <a:prstGeom prst="diamond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2"/>
          <p:cNvSpPr/>
          <p:nvPr/>
        </p:nvSpPr>
        <p:spPr>
          <a:xfrm>
            <a:off x="3389400" y="290664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fi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3"/>
          <p:cNvSpPr/>
          <p:nvPr/>
        </p:nvSpPr>
        <p:spPr>
          <a:xfrm>
            <a:off x="4532760" y="23734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直线箭头连接符 14"/>
          <p:cNvCxnSpPr>
            <a:stCxn id="206" idx="2"/>
            <a:endCxn id="208" idx="0"/>
          </p:cNvCxnSpPr>
          <p:nvPr/>
        </p:nvCxnSpPr>
        <p:spPr>
          <a:xfrm>
            <a:off x="4381200" y="2362320"/>
            <a:ext cx="1080" cy="45792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cxnSp>
        <p:nvCxnSpPr>
          <p:cNvPr id="212" name="肘形连接符 17"/>
          <p:cNvCxnSpPr>
            <a:stCxn id="208" idx="1"/>
            <a:endCxn id="213" idx="1"/>
          </p:cNvCxnSpPr>
          <p:nvPr/>
        </p:nvCxnSpPr>
        <p:spPr>
          <a:xfrm flipV="1" rot="10800000">
            <a:off x="2818800" y="3123000"/>
            <a:ext cx="13320" cy="2591640"/>
          </a:xfrm>
          <a:prstGeom prst="bentConnector3">
            <a:avLst>
              <a:gd name="adj1" fmla="val 11700000"/>
            </a:avLst>
          </a:prstGeom>
          <a:ln w="28440">
            <a:solidFill>
              <a:srgbClr val="339966"/>
            </a:solidFill>
            <a:round/>
            <a:tailEnd len="med" type="triangle" w="lg"/>
          </a:ln>
        </p:spPr>
      </p:cxnSp>
      <p:grpSp>
        <p:nvGrpSpPr>
          <p:cNvPr id="214" name="组 25"/>
          <p:cNvGrpSpPr/>
          <p:nvPr/>
        </p:nvGrpSpPr>
        <p:grpSpPr>
          <a:xfrm>
            <a:off x="2819520" y="4495680"/>
            <a:ext cx="3124080" cy="457200"/>
            <a:chOff x="2819520" y="4495680"/>
            <a:chExt cx="3124080" cy="457200"/>
          </a:xfrm>
        </p:grpSpPr>
        <p:sp>
          <p:nvSpPr>
            <p:cNvPr id="215" name="矩形 26"/>
            <p:cNvSpPr/>
            <p:nvPr/>
          </p:nvSpPr>
          <p:spPr>
            <a:xfrm>
              <a:off x="2819520" y="4495680"/>
              <a:ext cx="31240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矩形 27"/>
            <p:cNvSpPr/>
            <p:nvPr/>
          </p:nvSpPr>
          <p:spPr>
            <a:xfrm>
              <a:off x="2819520" y="457164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gist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prefi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remotel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 28"/>
          <p:cNvGrpSpPr/>
          <p:nvPr/>
        </p:nvGrpSpPr>
        <p:grpSpPr>
          <a:xfrm>
            <a:off x="5486400" y="3657600"/>
            <a:ext cx="3581280" cy="456840"/>
            <a:chOff x="5486400" y="3657600"/>
            <a:chExt cx="3581280" cy="456840"/>
          </a:xfrm>
        </p:grpSpPr>
        <p:sp>
          <p:nvSpPr>
            <p:cNvPr id="218" name="矩形 29"/>
            <p:cNvSpPr/>
            <p:nvPr/>
          </p:nvSpPr>
          <p:spPr>
            <a:xfrm>
              <a:off x="5486400" y="3657600"/>
              <a:ext cx="3581280" cy="456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矩形 30"/>
            <p:cNvSpPr/>
            <p:nvPr/>
          </p:nvSpPr>
          <p:spPr>
            <a:xfrm>
              <a:off x="5486400" y="3733560"/>
              <a:ext cx="349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nregist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long_prefi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remotel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矩形 31"/>
          <p:cNvSpPr/>
          <p:nvPr/>
        </p:nvSpPr>
        <p:spPr>
          <a:xfrm>
            <a:off x="16200" y="2678040"/>
            <a:ext cx="37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horter one (or the same) ex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32"/>
          <p:cNvSpPr/>
          <p:nvPr/>
        </p:nvSpPr>
        <p:spPr>
          <a:xfrm>
            <a:off x="5517000" y="266688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longer on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ng_prefi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肘形连接符 33"/>
          <p:cNvCxnSpPr>
            <a:stCxn id="208" idx="3"/>
            <a:endCxn id="218" idx="0"/>
          </p:cNvCxnSpPr>
          <p:nvPr/>
        </p:nvCxnSpPr>
        <p:spPr>
          <a:xfrm>
            <a:off x="5943600" y="3124080"/>
            <a:ext cx="1334160" cy="534240"/>
          </a:xfrm>
          <a:prstGeom prst="bentConnector2">
            <a:avLst/>
          </a:prstGeom>
          <a:ln w="28440">
            <a:solidFill>
              <a:srgbClr val="339966"/>
            </a:solidFill>
            <a:round/>
            <a:tailEnd len="med" type="triangle" w="lg"/>
          </a:ln>
        </p:spPr>
      </p:cxnSp>
      <p:cxnSp>
        <p:nvCxnSpPr>
          <p:cNvPr id="223" name="肘形连接符 36"/>
          <p:cNvCxnSpPr>
            <a:stCxn id="218" idx="2"/>
            <a:endCxn id="215" idx="3"/>
          </p:cNvCxnSpPr>
          <p:nvPr/>
        </p:nvCxnSpPr>
        <p:spPr>
          <a:xfrm rot="5400000">
            <a:off x="6305040" y="3752640"/>
            <a:ext cx="610200" cy="1334160"/>
          </a:xfrm>
          <a:prstGeom prst="bentConnector2">
            <a:avLst/>
          </a:prstGeom>
          <a:ln w="28440">
            <a:solidFill>
              <a:srgbClr val="339966"/>
            </a:solidFill>
            <a:round/>
            <a:tailEnd len="med" type="triangle" w="lg"/>
          </a:ln>
        </p:spPr>
      </p:cxnSp>
      <p:cxnSp>
        <p:nvCxnSpPr>
          <p:cNvPr id="224" name="直线箭头连接符 42"/>
          <p:cNvCxnSpPr>
            <a:stCxn id="208" idx="2"/>
            <a:endCxn id="215" idx="0"/>
          </p:cNvCxnSpPr>
          <p:nvPr/>
        </p:nvCxnSpPr>
        <p:spPr>
          <a:xfrm>
            <a:off x="4381200" y="3428640"/>
            <a:ext cx="1080" cy="106740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grpSp>
        <p:nvGrpSpPr>
          <p:cNvPr id="225" name="组 45"/>
          <p:cNvGrpSpPr/>
          <p:nvPr/>
        </p:nvGrpSpPr>
        <p:grpSpPr>
          <a:xfrm>
            <a:off x="2819520" y="5486400"/>
            <a:ext cx="3124080" cy="457200"/>
            <a:chOff x="2819520" y="5486400"/>
            <a:chExt cx="3124080" cy="457200"/>
          </a:xfrm>
        </p:grpSpPr>
        <p:sp>
          <p:nvSpPr>
            <p:cNvPr id="213" name="矩形 46"/>
            <p:cNvSpPr/>
            <p:nvPr/>
          </p:nvSpPr>
          <p:spPr>
            <a:xfrm>
              <a:off x="2819520" y="5486400"/>
              <a:ext cx="31240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47"/>
            <p:cNvSpPr/>
            <p:nvPr/>
          </p:nvSpPr>
          <p:spPr>
            <a:xfrm>
              <a:off x="2819520" y="556236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7" name="直线箭头连接符 50"/>
          <p:cNvCxnSpPr>
            <a:stCxn id="215" idx="2"/>
            <a:endCxn id="213" idx="0"/>
          </p:cNvCxnSpPr>
          <p:nvPr/>
        </p:nvCxnSpPr>
        <p:spPr>
          <a:xfrm>
            <a:off x="4381200" y="4952880"/>
            <a:ext cx="1080" cy="53424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remote registered prefix should be maintain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 state on remote hub needs to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-term: re-register periodically (on-demand face timeout * 90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ng-term: keep-alive + periodic face/rib que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connectivity changes, remote registered prefix should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R1 signal will be sent by an external to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uld process USR1 signal and refresh all previously remotely registered pre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all local apps stops, remotely registered prefix should be unregiste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register and face destroy should trigger clean up proce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3AD5-5E3A-4D3B-A444-00A9706753F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nup processing on local N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calhos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register for prefix &lt;P&gt; or and face destroy (local application stopp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“/localhost”.isPrefixOf(&lt;P&gt;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 registered prefix &lt;PREFIX&gt; in the registered prefix 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 RIB entry that has prefix &lt;PREFIX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entry not f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register &lt;PREFIX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cel refresh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ve from the registered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CEE0-4398-4A59-B86F-6F6E98A3DA5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3:02:57Z</dcterms:created>
  <dc:creator>罗腊咏</dc:creator>
  <dc:description/>
  <dc:language>en-US</dc:language>
  <cp:lastModifiedBy>Alex Afanasyev</cp:lastModifiedBy>
  <dcterms:modified xsi:type="dcterms:W3CDTF">2014-10-17T20:03:15Z</dcterms:modified>
  <cp:revision>1586</cp:revision>
  <dc:subject/>
  <dc:title> Towards TCAM-based scalable virtual routers</dc:title>
</cp:coreProperties>
</file>