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9"/>
          </p:nvPr>
        </p:nvSpPr>
        <p:spPr>
          <a:xfrm>
            <a:off x="385596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950400" y="738360"/>
            <a:ext cx="4907160" cy="368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10"/>
          </p:nvPr>
        </p:nvSpPr>
        <p:spPr>
          <a:xfrm>
            <a:off x="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11"/>
          </p:nvPr>
        </p:nvSpPr>
        <p:spPr>
          <a:xfrm>
            <a:off x="385596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D9FF-3323-4396-B6C0-E8C443895E1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50760" y="738360"/>
            <a:ext cx="4907160" cy="3681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3622-8D42-4324-9C63-61666ADE540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50760" y="738360"/>
            <a:ext cx="4907160" cy="36813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3F6A-2315-4C16-BC70-05CD85308EF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1538-68FC-4C98-ABB3-7734DEFAC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17BB-5755-4BF7-8030-589BE206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558D-B8DD-4C32-AE0B-877CF582A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C11D-9652-4550-8E83-772ED355F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31158-7064-49A1-AE47-8131112F13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23D9F4-1F49-4170-8818-83508D7774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181DF-16A4-4B94-AC18-753C849C4E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4679B-EC3A-4214-8A43-82A675F659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A079D9-3B58-4261-9E46-91DABB1F8B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52E1C5-A79C-41EA-9652-4032776DA5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44CF5E-B02D-4A43-BE20-A9A9C7D829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DFF4-9C1B-4205-868A-8F509458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C8C0E0-5315-4138-A192-4C98F8BDA7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1316BA-6DA7-4CEF-9A7E-B4B5180B82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B3649-E3F8-4AC2-8CFC-930C2BC20F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EAEC69-49CC-4387-9E3E-1C288D2A47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1BF29-4927-4D6C-8A38-0874F24811C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4F536-492B-4ACA-B8F8-3326E2094FE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5EADC-AC44-43C6-BBD4-E4596F5AE4F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BA89E7-5526-437F-937F-151FA37A1D7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BF41A-00FB-41F9-B0F7-04118D6E6A7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86935-7170-4416-A4ED-BAA58B9D85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1695-F1D8-4ECC-893F-91024BF2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C84786-6AF9-410B-9C8E-FEE8540E8F5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0892E-C9EA-4D19-A034-4EF24F351E3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C83977-A010-4AC6-93B0-C6C91F161BA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21205-414A-4EAD-977A-0B324623B0A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843A0-11D6-4800-9EC6-BBFE609109E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91D4CA-7232-4F9D-B714-D305317932E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27CAF-C38E-471E-B63E-1081689397E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A2FDEC-70A4-47BC-90EB-792B58065EA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1DECA9-B5CC-4C7F-8561-8B0812C9776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1D49E6-6F5E-45EE-B661-70D71843E4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5B12-47B9-45BC-9254-8D599315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664042-2FE9-4195-8E70-DC3404B9DE2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364067-8D10-4D06-8FD1-9DFBC7D7648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444ADD-E9E2-4CB8-9A2B-439D686A3E2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9344CC-06C0-4F9D-A66F-DF718DD9F93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04020B-F52A-4E7F-9F60-12A49F8F378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32569B-90C9-447F-8BF1-2EBA501ECC9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A12A0B-3A5C-4DF5-BB0C-869CC1E798C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515AD5-A5C1-4B7F-A383-8B27E823AC8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0E591E-C950-4915-ACE7-DCDD335CFE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0BB7-5A97-46A9-8B07-37F45A31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20F7-9569-4904-B3C4-AD69202C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8038-4DED-43D4-B32A-11B4DD33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82DC-2EEA-4DF6-86B7-1519002A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02C0-BEBA-4CD4-B485-7A770614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4AD4-294A-4585-AC04-6D88B5BDE47B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Remote Prefix Regi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9B0E-BA73-489A-83EE-1B3DFB57B0D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0746-A65C-41C1-B605-01B1F63BEA1C}" type="slidenum">
              <a:rPr b="0" lang="en-US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0522-398B-4E39-88D2-11E222A3819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Remote Prefix Regi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0DB1-79A1-4EEF-9D10-BD93422166FD}" type="slidenum">
              <a:rPr b="0" lang="en-US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Arial"/>
              </a:rPr>
              <a:t>Remote Prefix Reg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ote Prefix Regi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Draft 1. October 17, 201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Alex Afanasyev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anbiao L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B684-20E6-4253-9C40-01A1098F29F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gister “back-route(s)” on remote hu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s own the registered prefix(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NDN Testbed certificate delegates ownership for namespa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gister only when necess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t least one local app expects Interes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gregate registr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local apps share user- or node-owned prefix(es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ck-route(s)” should be maintain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mote hubs keep only soft state f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mote fa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mote registration (?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cess should be transparent for ap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s register only with local N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necessary, registrations further “propagate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740E-E4DA-4212-8B45-01FA9B5D186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2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华文隶书"/>
              </a:rPr>
              <a:t>Overview 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幻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5F5F-988F-4675-8086-9350686F37E7}" type="slidenum">
              <a:rPr b="0" lang="en-US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37"/>
          <p:cNvSpPr/>
          <p:nvPr/>
        </p:nvSpPr>
        <p:spPr>
          <a:xfrm>
            <a:off x="3747600" y="1066680"/>
            <a:ext cx="29376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calho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fd/nrd/register/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63"/>
          <p:cNvSpPr/>
          <p:nvPr/>
        </p:nvSpPr>
        <p:spPr>
          <a:xfrm>
            <a:off x="6781680" y="1290600"/>
            <a:ext cx="1828800" cy="986040"/>
          </a:xfrm>
          <a:prstGeom prst="rect">
            <a:avLst/>
          </a:prstGeom>
          <a:solidFill>
            <a:srgbClr val="fcfbf9"/>
          </a:solidFill>
          <a:ln w="349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Remote NFD/N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肘形连接符 82"/>
          <p:cNvCxnSpPr/>
          <p:nvPr/>
        </p:nvCxnSpPr>
        <p:spPr>
          <a:xfrm flipH="1" rot="10800000">
            <a:off x="5410080" y="1599480"/>
            <a:ext cx="1395720" cy="1220040"/>
          </a:xfrm>
          <a:prstGeom prst="bentConnector3">
            <a:avLst>
              <a:gd name="adj1" fmla="val -59210"/>
            </a:avLst>
          </a:prstGeom>
          <a:ln w="28440">
            <a:solidFill>
              <a:srgbClr val="008000"/>
            </a:solidFill>
            <a:prstDash val="sysDot"/>
            <a:round/>
            <a:tailEnd len="med" type="arrow" w="med"/>
          </a:ln>
        </p:spPr>
      </p:cxnSp>
      <p:sp>
        <p:nvSpPr>
          <p:cNvPr id="178" name="矩形 63"/>
          <p:cNvSpPr/>
          <p:nvPr/>
        </p:nvSpPr>
        <p:spPr>
          <a:xfrm>
            <a:off x="3581280" y="2586240"/>
            <a:ext cx="1828800" cy="986040"/>
          </a:xfrm>
          <a:prstGeom prst="rect">
            <a:avLst/>
          </a:prstGeom>
          <a:solidFill>
            <a:srgbClr val="fcfbf9"/>
          </a:solidFill>
          <a:ln w="349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Local NFD/N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Straight Arrow Connector 2"/>
          <p:cNvCxnSpPr/>
          <p:nvPr/>
        </p:nvCxnSpPr>
        <p:spPr>
          <a:xfrm flipV="1">
            <a:off x="4647960" y="4038120"/>
            <a:ext cx="1080" cy="144864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sp>
        <p:nvSpPr>
          <p:cNvPr id="180" name="Hexagon 3"/>
          <p:cNvSpPr/>
          <p:nvPr/>
        </p:nvSpPr>
        <p:spPr>
          <a:xfrm>
            <a:off x="1143000" y="5562720"/>
            <a:ext cx="849240" cy="609480"/>
          </a:xfrm>
          <a:prstGeom prst="hexagon">
            <a:avLst>
              <a:gd name="adj" fmla="val 25023"/>
              <a:gd name="vf" fmla="val 11547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p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Hexagon 46"/>
          <p:cNvSpPr/>
          <p:nvPr/>
        </p:nvSpPr>
        <p:spPr>
          <a:xfrm>
            <a:off x="4191120" y="5562720"/>
            <a:ext cx="849240" cy="609480"/>
          </a:xfrm>
          <a:prstGeom prst="hexagon">
            <a:avLst>
              <a:gd name="adj" fmla="val 25023"/>
              <a:gd name="vf" fmla="val 11547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p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Hexagon 47"/>
          <p:cNvSpPr/>
          <p:nvPr/>
        </p:nvSpPr>
        <p:spPr>
          <a:xfrm>
            <a:off x="6858000" y="5562720"/>
            <a:ext cx="849240" cy="609480"/>
          </a:xfrm>
          <a:prstGeom prst="hexagon">
            <a:avLst>
              <a:gd name="adj" fmla="val 25023"/>
              <a:gd name="vf" fmla="val 11547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p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Straight Arrow Connector 48"/>
          <p:cNvCxnSpPr>
            <a:stCxn id="182" idx="0"/>
          </p:cNvCxnSpPr>
          <p:nvPr/>
        </p:nvCxnSpPr>
        <p:spPr>
          <a:xfrm flipH="1" flipV="1">
            <a:off x="5333760" y="4038120"/>
            <a:ext cx="1676880" cy="152496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cxnSp>
        <p:nvCxnSpPr>
          <p:cNvPr id="184" name="Straight Arrow Connector 50"/>
          <p:cNvCxnSpPr>
            <a:stCxn id="180" idx="0"/>
          </p:cNvCxnSpPr>
          <p:nvPr/>
        </p:nvCxnSpPr>
        <p:spPr>
          <a:xfrm flipV="1">
            <a:off x="1839600" y="4038120"/>
            <a:ext cx="1894680" cy="152496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sp>
        <p:nvSpPr>
          <p:cNvPr id="185" name="Rectangle 7"/>
          <p:cNvSpPr/>
          <p:nvPr/>
        </p:nvSpPr>
        <p:spPr>
          <a:xfrm>
            <a:off x="635040" y="4800600"/>
            <a:ext cx="2590920" cy="5202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app1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5"/>
          <p:cNvSpPr/>
          <p:nvPr/>
        </p:nvSpPr>
        <p:spPr>
          <a:xfrm>
            <a:off x="3429000" y="4800600"/>
            <a:ext cx="2209680" cy="5202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/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36"/>
          <p:cNvSpPr/>
          <p:nvPr/>
        </p:nvSpPr>
        <p:spPr>
          <a:xfrm>
            <a:off x="2743200" y="3668760"/>
            <a:ext cx="32385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calho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fd/rib/register/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6"/>
          <p:cNvSpPr/>
          <p:nvPr/>
        </p:nvSpPr>
        <p:spPr>
          <a:xfrm>
            <a:off x="5867280" y="4800600"/>
            <a:ext cx="2590920" cy="5202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/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1"/>
          <p:cNvSpPr/>
          <p:nvPr/>
        </p:nvSpPr>
        <p:spPr>
          <a:xfrm>
            <a:off x="2819520" y="1868400"/>
            <a:ext cx="3581280" cy="642600"/>
          </a:xfrm>
          <a:prstGeom prst="rect">
            <a:avLst/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/ndn/pref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800" spc="-1" strike="noStrike">
                <a:solidFill>
                  <a:srgbClr val="660066"/>
                </a:solidFill>
                <a:latin typeface="Calibri"/>
              </a:rPr>
              <a:t>/nr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ocal NR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wns a set of keys/certificates, delegated from user namespa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key can be restricted/scoped for NRD operations on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/&lt;...&gt;/KEY/&lt;...&gt;/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r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/&lt;dsk-id&gt;/ID-CE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ndn/edu/ucla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cs/afanasev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nrd/dsk-1/ID-CER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ndn/edu/ucla/cs/afanasev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chronochat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nrd/dsk-1/ID-CER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ndn/guest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cawka1@gmail.com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nrd/dsk-2/ID-CER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mote NR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 /localhop registrations with proper trust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 registrations for set of prefix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ndn/edu/ucl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ndn/gue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E1E9-0127-4CC3-9DF8-43E509CC902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ight Brace 4"/>
          <p:cNvSpPr/>
          <p:nvPr/>
        </p:nvSpPr>
        <p:spPr>
          <a:xfrm>
            <a:off x="5562720" y="4800600"/>
            <a:ext cx="533160" cy="990720"/>
          </a:xfrm>
          <a:custGeom>
            <a:avLst/>
            <a:gdLst>
              <a:gd name="textAreaLeft" fmla="*/ 0 w 533160"/>
              <a:gd name="textAreaRight" fmla="*/ 192600 w 533160"/>
              <a:gd name="textAreaTop" fmla="*/ 13680 h 990720"/>
              <a:gd name="textAreaBottom" fmla="*/ 9770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85"/>
                  <a:pt x="10800" y="969"/>
                </a:cubicBezTo>
                <a:lnTo>
                  <a:pt x="10800" y="9831"/>
                </a:lnTo>
                <a:cubicBezTo>
                  <a:pt x="10800" y="10316"/>
                  <a:pt x="16200" y="10800"/>
                  <a:pt x="21600" y="10800"/>
                </a:cubicBezTo>
                <a:cubicBezTo>
                  <a:pt x="16200" y="10800"/>
                  <a:pt x="10800" y="11285"/>
                  <a:pt x="10800" y="11769"/>
                </a:cubicBezTo>
                <a:lnTo>
                  <a:pt x="10800" y="20631"/>
                </a:lnTo>
                <a:cubicBezTo>
                  <a:pt x="10800" y="21116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5"/>
          <p:cNvSpPr/>
          <p:nvPr/>
        </p:nvSpPr>
        <p:spPr>
          <a:xfrm>
            <a:off x="6172200" y="4800600"/>
            <a:ext cx="243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be implemented in phase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hase 1, remote NRDs will process all regist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mote registration processing on local N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te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calho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refix registration for prefix &lt;P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“/localhost”.isPrefixOf(&lt;P&gt;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keys, namespaces) &lt;- enumerate keys NRD ow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key defines “namespace” it us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e define the following convention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ey: /&lt;..1..&gt;/KEY/&lt;..2..&gt;/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nrd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/&lt;dsk-id&gt;/ID-CER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namespace:  /&lt;..1..&gt;/&lt;..2..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&lt;KEY&gt;, &lt;PREFIX&gt;) &lt;- longest prefix match on key namespaces for &lt;P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f nothing found, stop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&lt;PREIFX&gt; already registe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&lt;EXTRA CHECK (seen next slide)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nd localhop registration for &lt;PREFIX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ign with &lt;KEY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hedule registration refresh for &lt;PREFIX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dd &lt;PREFIX&gt; to RIB entry (?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dd &lt;PREFIX&gt; to the registered prefix set (?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E29B-B512-41E7-B582-FD90E78C519E}" type="slidenum">
              <a:rPr b="0" lang="en-US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 check during regi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ame namespace can be covered by multiple key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alex/home/macbook/app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alex/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alex/home/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alex/home/macbook/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alex/home/macbook/app1/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hould we always use keys for the shortest namespace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hould we register multiple back routes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Should we unregister longer namespace when shorter is being registered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F7BA-B1AE-4BD5-BEE8-9FB3D6D78EA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华文隶书"/>
              </a:rPr>
              <a:t>Local NRD (unregister longer when necessary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幻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EC9C-2D7D-4088-8F17-6B9AE33DF929}" type="slidenum">
              <a:rPr b="0" lang="en-US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</a:rPr>
              <a:t>Remote Prefix Reg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直线箭头连接符 8"/>
          <p:cNvCxnSpPr/>
          <p:nvPr/>
        </p:nvCxnSpPr>
        <p:spPr>
          <a:xfrm>
            <a:off x="4343040" y="1295280"/>
            <a:ext cx="1080" cy="61056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sp>
        <p:nvSpPr>
          <p:cNvPr id="205" name="矩形 9"/>
          <p:cNvSpPr/>
          <p:nvPr/>
        </p:nvSpPr>
        <p:spPr>
          <a:xfrm>
            <a:off x="4386600" y="13716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quest (regi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5"/>
          <p:cNvSpPr/>
          <p:nvPr/>
        </p:nvSpPr>
        <p:spPr>
          <a:xfrm>
            <a:off x="2819520" y="1905120"/>
            <a:ext cx="312408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ermine prefix to reg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0"/>
          <p:cNvSpPr/>
          <p:nvPr/>
        </p:nvSpPr>
        <p:spPr>
          <a:xfrm>
            <a:off x="2819520" y="1981080"/>
            <a:ext cx="3047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菱形 11"/>
          <p:cNvSpPr/>
          <p:nvPr/>
        </p:nvSpPr>
        <p:spPr>
          <a:xfrm>
            <a:off x="2819520" y="2819520"/>
            <a:ext cx="3124080" cy="609480"/>
          </a:xfrm>
          <a:prstGeom prst="diamond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2"/>
          <p:cNvSpPr/>
          <p:nvPr/>
        </p:nvSpPr>
        <p:spPr>
          <a:xfrm>
            <a:off x="3389400" y="290664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fi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13"/>
          <p:cNvSpPr/>
          <p:nvPr/>
        </p:nvSpPr>
        <p:spPr>
          <a:xfrm>
            <a:off x="4532760" y="23734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直线箭头连接符 14"/>
          <p:cNvCxnSpPr>
            <a:stCxn id="206" idx="2"/>
            <a:endCxn id="208" idx="0"/>
          </p:cNvCxnSpPr>
          <p:nvPr/>
        </p:nvCxnSpPr>
        <p:spPr>
          <a:xfrm>
            <a:off x="4381200" y="2362320"/>
            <a:ext cx="1080" cy="45792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cxnSp>
        <p:nvCxnSpPr>
          <p:cNvPr id="212" name="肘形连接符 17"/>
          <p:cNvCxnSpPr>
            <a:stCxn id="208" idx="1"/>
            <a:endCxn id="213" idx="1"/>
          </p:cNvCxnSpPr>
          <p:nvPr/>
        </p:nvCxnSpPr>
        <p:spPr>
          <a:xfrm flipV="1" rot="10800000">
            <a:off x="2818800" y="3123000"/>
            <a:ext cx="13320" cy="2591640"/>
          </a:xfrm>
          <a:prstGeom prst="bentConnector3">
            <a:avLst>
              <a:gd name="adj1" fmla="val 11700000"/>
            </a:avLst>
          </a:prstGeom>
          <a:ln w="28440">
            <a:solidFill>
              <a:srgbClr val="339966"/>
            </a:solidFill>
            <a:round/>
            <a:tailEnd len="med" type="triangle" w="lg"/>
          </a:ln>
        </p:spPr>
      </p:cxnSp>
      <p:grpSp>
        <p:nvGrpSpPr>
          <p:cNvPr id="214" name="组 25"/>
          <p:cNvGrpSpPr/>
          <p:nvPr/>
        </p:nvGrpSpPr>
        <p:grpSpPr>
          <a:xfrm>
            <a:off x="2819520" y="4495680"/>
            <a:ext cx="3124080" cy="457200"/>
            <a:chOff x="2819520" y="4495680"/>
            <a:chExt cx="3124080" cy="457200"/>
          </a:xfrm>
        </p:grpSpPr>
        <p:sp>
          <p:nvSpPr>
            <p:cNvPr id="215" name="矩形 26"/>
            <p:cNvSpPr/>
            <p:nvPr/>
          </p:nvSpPr>
          <p:spPr>
            <a:xfrm>
              <a:off x="2819520" y="4495680"/>
              <a:ext cx="312408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矩形 27"/>
            <p:cNvSpPr/>
            <p:nvPr/>
          </p:nvSpPr>
          <p:spPr>
            <a:xfrm>
              <a:off x="2819520" y="4571640"/>
              <a:ext cx="304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gister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prefi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remotel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组 28"/>
          <p:cNvGrpSpPr/>
          <p:nvPr/>
        </p:nvGrpSpPr>
        <p:grpSpPr>
          <a:xfrm>
            <a:off x="5486400" y="3657600"/>
            <a:ext cx="3581280" cy="456840"/>
            <a:chOff x="5486400" y="3657600"/>
            <a:chExt cx="3581280" cy="456840"/>
          </a:xfrm>
        </p:grpSpPr>
        <p:sp>
          <p:nvSpPr>
            <p:cNvPr id="218" name="矩形 29"/>
            <p:cNvSpPr/>
            <p:nvPr/>
          </p:nvSpPr>
          <p:spPr>
            <a:xfrm>
              <a:off x="5486400" y="3657600"/>
              <a:ext cx="3581280" cy="456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矩形 30"/>
            <p:cNvSpPr/>
            <p:nvPr/>
          </p:nvSpPr>
          <p:spPr>
            <a:xfrm>
              <a:off x="5486400" y="3733560"/>
              <a:ext cx="349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nregister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long_prefi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remotel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矩形 31"/>
          <p:cNvSpPr/>
          <p:nvPr/>
        </p:nvSpPr>
        <p:spPr>
          <a:xfrm>
            <a:off x="16200" y="2678040"/>
            <a:ext cx="37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shorter one (or the same) ex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32"/>
          <p:cNvSpPr/>
          <p:nvPr/>
        </p:nvSpPr>
        <p:spPr>
          <a:xfrm>
            <a:off x="5517000" y="2666880"/>
            <a:ext cx="34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longer on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ng_prefi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2" name="肘形连接符 33"/>
          <p:cNvCxnSpPr>
            <a:stCxn id="208" idx="3"/>
            <a:endCxn id="218" idx="0"/>
          </p:cNvCxnSpPr>
          <p:nvPr/>
        </p:nvCxnSpPr>
        <p:spPr>
          <a:xfrm>
            <a:off x="5943600" y="3124080"/>
            <a:ext cx="1334160" cy="534240"/>
          </a:xfrm>
          <a:prstGeom prst="bentConnector2">
            <a:avLst/>
          </a:prstGeom>
          <a:ln w="28440">
            <a:solidFill>
              <a:srgbClr val="339966"/>
            </a:solidFill>
            <a:round/>
            <a:tailEnd len="med" type="triangle" w="lg"/>
          </a:ln>
        </p:spPr>
      </p:cxnSp>
      <p:cxnSp>
        <p:nvCxnSpPr>
          <p:cNvPr id="223" name="肘形连接符 36"/>
          <p:cNvCxnSpPr>
            <a:stCxn id="218" idx="2"/>
            <a:endCxn id="215" idx="3"/>
          </p:cNvCxnSpPr>
          <p:nvPr/>
        </p:nvCxnSpPr>
        <p:spPr>
          <a:xfrm rot="5400000">
            <a:off x="6305040" y="3752640"/>
            <a:ext cx="610200" cy="1334160"/>
          </a:xfrm>
          <a:prstGeom prst="bentConnector2">
            <a:avLst/>
          </a:prstGeom>
          <a:ln w="28440">
            <a:solidFill>
              <a:srgbClr val="339966"/>
            </a:solidFill>
            <a:round/>
            <a:tailEnd len="med" type="triangle" w="lg"/>
          </a:ln>
        </p:spPr>
      </p:cxnSp>
      <p:cxnSp>
        <p:nvCxnSpPr>
          <p:cNvPr id="224" name="直线箭头连接符 42"/>
          <p:cNvCxnSpPr>
            <a:stCxn id="208" idx="2"/>
            <a:endCxn id="215" idx="0"/>
          </p:cNvCxnSpPr>
          <p:nvPr/>
        </p:nvCxnSpPr>
        <p:spPr>
          <a:xfrm>
            <a:off x="4381200" y="3428640"/>
            <a:ext cx="1080" cy="106740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grpSp>
        <p:nvGrpSpPr>
          <p:cNvPr id="225" name="组 45"/>
          <p:cNvGrpSpPr/>
          <p:nvPr/>
        </p:nvGrpSpPr>
        <p:grpSpPr>
          <a:xfrm>
            <a:off x="2819520" y="5486400"/>
            <a:ext cx="3124080" cy="457200"/>
            <a:chOff x="2819520" y="5486400"/>
            <a:chExt cx="3124080" cy="457200"/>
          </a:xfrm>
        </p:grpSpPr>
        <p:sp>
          <p:nvSpPr>
            <p:cNvPr id="213" name="矩形 46"/>
            <p:cNvSpPr/>
            <p:nvPr/>
          </p:nvSpPr>
          <p:spPr>
            <a:xfrm>
              <a:off x="2819520" y="5486400"/>
              <a:ext cx="312408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矩形 47"/>
            <p:cNvSpPr/>
            <p:nvPr/>
          </p:nvSpPr>
          <p:spPr>
            <a:xfrm>
              <a:off x="2819520" y="5562360"/>
              <a:ext cx="304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27" name="直线箭头连接符 50"/>
          <p:cNvCxnSpPr>
            <a:stCxn id="215" idx="2"/>
            <a:endCxn id="213" idx="0"/>
          </p:cNvCxnSpPr>
          <p:nvPr/>
        </p:nvCxnSpPr>
        <p:spPr>
          <a:xfrm>
            <a:off x="4381200" y="4952880"/>
            <a:ext cx="1080" cy="53424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remote registered prefix should be maintaine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ft state on remote hub needs to be refresh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-term: re-register periodically (on-demand face timeout * 90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ng-term: keep-alive + periodic face/rib que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connectivity changes, remote registered prefix should be refresh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R1 signal will be sent by an external to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R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uld process USR1 signal and refresh all previously remotely registered prefi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all local apps stops, remotely registered prefix should be unregiste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register and face destroy should trigger clean up proce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42B7-5A44-47C8-8D9A-E94777629C9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eanup processing on local N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te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ocalhos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register for prefix &lt;P&gt; or and face destroy (local application stopp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“/localhost”.isPrefixOf(&lt;P&gt;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ach registered prefix &lt;PREFIX&gt; in the registered prefix l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 RIB entry that has prefix &lt;PREFIX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entry not f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register &lt;PREFIX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cel refresh ev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move from the registered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9AF1-90CF-4FFE-96CA-4199020B97F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3:02:57Z</dcterms:created>
  <dc:creator>罗腊咏</dc:creator>
  <dc:description/>
  <dc:language>en-US</dc:language>
  <cp:lastModifiedBy>Alex Afanasyev</cp:lastModifiedBy>
  <dcterms:modified xsi:type="dcterms:W3CDTF">2014-10-17T20:03:15Z</dcterms:modified>
  <cp:revision>1586</cp:revision>
  <dc:subject/>
  <dc:title> Towards TCAM-based scalable virtual routers</dc:title>
</cp:coreProperties>
</file>